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B44-0C15-4E84-BF6B-7697E497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A37-4D23-42BD-B621-6A036EE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354E-E52F-44B4-8CA4-F5C1A045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76A0-E23F-4FC2-8603-CBF9191A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2B6-B5B7-4EF5-8822-2305FB09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8BF-C8FD-4829-8F8A-F4CDA9D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09A-2BC7-452A-828F-E1549560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A73-04DA-40AA-ADA4-4AE8B072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DB4C-64A0-4C90-AA99-AB244C8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25DB-812E-4B54-932D-BB65A6C4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C95-1D43-4ADA-8A14-0AFFB3EA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30E-FEA4-4C18-BD59-319CAE4C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7460-964D-4F93-A890-3DC7B8A009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28600" y="228600"/>
            <a:ext cx="64771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228600" y="8763120"/>
            <a:ext cx="647712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28600" y="304920"/>
            <a:ext cx="152280" cy="85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553080" y="304920"/>
            <a:ext cx="152640" cy="853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790640" y="60948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Special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1138680" y="1981080"/>
            <a:ext cx="473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Your Eyes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Frederick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14400" y="495288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e enclosed information is intended only for the student(s) selected to participate in the Special Mission Co-Curricular Activity toda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ny unauthorized disclosure will result in revocation of your security clear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9:14:13Z</dcterms:created>
  <dc:creator>Calvin Chue</dc:creator>
  <dc:description/>
  <dc:language>en-US</dc:language>
  <cp:lastModifiedBy>Calvin Chue</cp:lastModifiedBy>
  <dcterms:modified xsi:type="dcterms:W3CDTF">2010-06-09T19:04:45Z</dcterms:modified>
  <cp:revision>3</cp:revision>
  <dc:subject/>
  <dc:title>Slide 1</dc:title>
</cp:coreProperties>
</file>